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F807-502B-47CB-91B7-DA0EBFB8E0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B6E-0E4B-4204-AFB2-4ACCD69A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B67-E54A-45B2-8622-2F684ADB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039-5FED-457D-A424-2F16C784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7CB-E20B-467F-8A4E-731C6064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0AF2-E567-4C33-BD47-70391E89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8213-9B5C-4482-94AE-4FC6043E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0AA-7D02-42B4-9460-38CD7DC5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8701-80E8-402C-9CF3-816C070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3EB3-C20D-4ECD-A0FB-3D14A3A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4009-71C4-4A0D-A630-56338B9E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30B3-EFEF-4F62-A0FF-6812651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0D2-4374-4E3B-BDCC-C173D12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C075-BD82-4294-B52C-491184E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E74-6DA2-4143-8A67-F401770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07A2-A6F8-46AA-9373-AF2985E2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5D6A-9898-45A2-97FC-49299194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02F1-4A00-40C6-AA9D-9FCF190C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BAC-6E35-4BEE-8DA9-370AC3B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3D0-7E87-49F9-BAA4-1D0814C8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1DE-0C98-403E-B734-D551EC0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C85-C17E-417F-B5F8-B52C3DC7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2CD-C866-4506-995B-DB989A72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2E9-D21E-442F-8D63-6D3013F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678-D7B1-45E6-98F9-D76666C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Line 5"/>
          <p:cNvSpPr/>
          <p:nvPr/>
        </p:nvSpPr>
        <p:spPr>
          <a:xfrm>
            <a:off x="611280" y="6453360"/>
            <a:ext cx="79246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B599-B784-4FB3-AF06-E59EECE55F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2E4A-0181-4A8F-B343-EF31F29D279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826920" y="2637000"/>
            <a:ext cx="75614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명</a:t>
            </a:r>
            <a:r>
              <a:rPr b="1" lang="en-US" sz="5400" spc="-1" strike="noStrike">
                <a:solidFill>
                  <a:srgbClr val="cc0000"/>
                </a:solidFill>
                <a:latin typeface="휴먼옛체"/>
                <a:ea typeface="휴먼옛체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지원기관명</a:t>
            </a:r>
            <a:r>
              <a:rPr b="1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지원일</a:t>
            </a:r>
            <a:r>
              <a:rPr b="1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11280" y="76500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인증지원프로그램 설명서</a:t>
            </a:r>
            <a:r>
              <a:rPr b="0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한국코치협회는 프로그램 인증심사를 </a:t>
            </a:r>
            <a:r>
              <a:rPr b="0" lang="en-US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차적으로 제출된 서류를 근거로 하고 있습니다</a:t>
            </a:r>
            <a:r>
              <a:rPr b="0" lang="en-US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000000"/>
                </a:solidFill>
                <a:latin typeface="휴먼옛체"/>
                <a:ea typeface="휴먼옛체"/>
              </a:rPr>
              <a:t>.</a:t>
            </a:r>
            <a:r>
              <a:rPr b="0" lang="en-US" sz="2000" spc="-1" strike="noStrike">
                <a:solidFill>
                  <a:srgbClr val="cc0000"/>
                </a:solidFill>
                <a:latin typeface="휴먼옛체"/>
                <a:ea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 특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학습 목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학습 대상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86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 운영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프로그램 세부 설명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6640" y="1916280"/>
          <a:ext cx="7893000" cy="4346280"/>
        </p:xfrm>
        <a:graphic>
          <a:graphicData uri="http://schemas.openxmlformats.org/drawingml/2006/table">
            <a:tbl>
              <a:tblPr/>
              <a:tblGrid>
                <a:gridCol w="909720"/>
                <a:gridCol w="1295280"/>
                <a:gridCol w="4753080"/>
                <a:gridCol w="9349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cc0000"/>
                          </a:solidFill>
                          <a:latin typeface="굴림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4360" y="692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c0000"/>
                </a:solidFill>
                <a:latin typeface="휴먼옛체"/>
                <a:ea typeface="휴먼옛체"/>
              </a:rPr>
              <a:t>기타사항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55640" y="198900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팔로우업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총 코칭실습 시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결석에 대한 운영 규칙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SEC</dc:creator>
  <dc:description/>
  <dc:language>en-US</dc:language>
  <cp:lastModifiedBy>korea</cp:lastModifiedBy>
  <dcterms:modified xsi:type="dcterms:W3CDTF">2012-03-13T04:51:12Z</dcterms:modified>
  <cp:revision>73</cp:revision>
  <dc:subject/>
  <dc:title>슬라이드 1</dc:title>
</cp:coreProperties>
</file>